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250-83C2-44E9-8C0C-98E77070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C7C-62A4-416A-B5B8-1C800247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EEC-FC86-427A-B7C1-6D9C4D0B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ADF-A210-4AD7-B6E6-E89DAC86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B16C-7ECF-4A00-9B05-A588E769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1FB-B956-43AB-B457-B05EAF1D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216-4EF6-4144-97AF-6262812D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7F7-511A-401C-92C8-BF8BB68A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89A-864D-4982-9336-451D2CA7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1CC-B53C-4F35-A8A8-E00282FB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35D-9A62-4FA6-B830-4487E7DE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700-8855-44FE-8175-D08E4FDB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E8FB-F2A5-48E3-8FAD-7AD7691FC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7 de marz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8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el examen del capitulo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-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Personajes latinos famos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es famoso Sammy So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es considerado una persona muy bu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es Sergio Garc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lo llaman “el Niño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-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Vocabul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1905120" cy="865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4800600" y="990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7391520" y="1676520"/>
            <a:ext cx="1600200" cy="156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5"/>
          <a:stretch/>
        </p:blipFill>
        <p:spPr>
          <a:xfrm>
            <a:off x="76320" y="4419720"/>
            <a:ext cx="2057400" cy="1623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6"/>
          <a:stretch/>
        </p:blipFill>
        <p:spPr>
          <a:xfrm>
            <a:off x="2209680" y="4572000"/>
            <a:ext cx="1492200" cy="1609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7"/>
          <a:stretch/>
        </p:blipFill>
        <p:spPr>
          <a:xfrm>
            <a:off x="3886200" y="4495680"/>
            <a:ext cx="1676520" cy="149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8"/>
          <a:stretch/>
        </p:blipFill>
        <p:spPr>
          <a:xfrm>
            <a:off x="5943600" y="4648320"/>
            <a:ext cx="1244520" cy="146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9"/>
          <a:stretch/>
        </p:blipFill>
        <p:spPr>
          <a:xfrm>
            <a:off x="7391520" y="4191120"/>
            <a:ext cx="1531800" cy="1638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54000" y="3581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644560" y="3581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4930560" y="3581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7240320" y="3581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1440" y="4343400"/>
            <a:ext cx="478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 flipH="1" flipV="1">
            <a:off x="304560" y="4648320"/>
            <a:ext cx="609480" cy="3808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2135160" y="61722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430440" y="5958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5616360" y="6186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215120" y="5729400"/>
            <a:ext cx="15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2636640"/>
            <a:ext cx="90676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II- </a:t>
            </a:r>
            <a:r>
              <a:rPr b="1" lang="es-ES_tradnl" sz="3200" spc="-1" strike="noStrike" u="sng">
                <a:solidFill>
                  <a:srgbClr val="008000"/>
                </a:solidFill>
                <a:uFillTx/>
                <a:latin typeface="Arial"/>
              </a:rPr>
              <a:t>Si o 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un partido de futbol dos equipos ju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lase es interesante porque me abur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espectador lanza el balón y mete un g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y un pícher, me gusta jugar balonc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portero bloquea el balón, no entra en la porter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28600" y="0"/>
            <a:ext cx="230976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2314440" cy="19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6781680" y="277920"/>
            <a:ext cx="1981440" cy="143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440" y="1523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H="1" flipV="1">
            <a:off x="609120" y="1828440"/>
            <a:ext cx="762120" cy="152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592360" y="5335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V="1">
            <a:off x="1981080" y="990720"/>
            <a:ext cx="83844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897280" y="18288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 flipH="1">
            <a:off x="3429000" y="1828800"/>
            <a:ext cx="838080" cy="3049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4800600" y="2133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5334120" y="129528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6707160" y="18288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320" y="759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III- </a:t>
            </a:r>
            <a:r>
              <a:rPr b="1" lang="es-ES_tradnl" sz="3200" spc="-1" strike="noStrike" u="sng">
                <a:solidFill>
                  <a:srgbClr val="008000"/>
                </a:solidFill>
                <a:uFillTx/>
                <a:latin typeface="Arial"/>
              </a:rPr>
              <a:t>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e with the correct form of the 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na ____________ a jugar a las dos. (empez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 en el equipo de futbol. (jug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_________ mirar el juego de baloncesto. (prefer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equipos no _________ perder. (quer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, un equipo siempre ________. (per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________ a casa para mirar el partido en la tele. (vol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 para el EXAMEN del Capitulo 1 el PROXIMO JUE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book: p. 2-29; p.34-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fu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, O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eis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aloncesto,basque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deportes en el mundo hisp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pa Mund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Anat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0:48:52Z</dcterms:created>
  <dc:creator>Helen Zumaeta</dc:creator>
  <dc:description/>
  <dc:language>en-US</dc:language>
  <cp:lastModifiedBy>Helen Zumaeta</cp:lastModifiedBy>
  <cp:lastPrinted>2013-03-07T13:28:10Z</cp:lastPrinted>
  <dcterms:modified xsi:type="dcterms:W3CDTF">2013-03-07T21:08:58Z</dcterms:modified>
  <cp:revision>16</cp:revision>
  <dc:subject/>
  <dc:title>Me llamo _______ Clase 7 IM La fecha es el 9 de marzo del 2011</dc:title>
</cp:coreProperties>
</file>